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F72-A096-484A-9523-EB51358C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58E-85AE-41EA-8BED-D974930E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85D-FA9F-4680-88F0-3619E500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F3B-4EC3-4C84-B38F-A7336586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8CE5-D06C-4592-8704-1A0B9A89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464C-FD14-4204-9420-203D8F4F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6539-5EF4-4382-9356-D7E1E089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513E-F1F9-4108-B6F8-392D4FB1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8AF6-43A2-4189-B367-F50460D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C4B7-EA90-4CF8-A5EF-C493BB9C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4DDB-B7A1-49D8-B05A-FDFE74AC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81C-496C-44EE-B7F1-99C85720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0657-AA4E-466E-85E6-4C20A278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A7C9-89B2-4177-8366-47D3AD37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9F84-775B-40DE-AAE6-D3D0DF9C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EDFC-35D9-4A68-994C-A89CD4BC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8F2D-5E21-4B8F-B97C-90A79FD0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CEB-AF91-4FC1-B510-80C2C024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74A-CD57-4C3E-96EB-2C3B6B5A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CCA-2D35-4C66-8348-1E14564B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70A-88B4-4911-B4DF-0EB70C4F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059-BB12-47D9-95E0-C813A86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DBB-617D-4FB2-8B0B-C4D59198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BF2-05CD-4FFC-A1D1-A73A7D0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9FB9-554C-4CF8-8E28-E8D948A52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7FC7-6D6B-4938-9C88-429EBD60E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20257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Saving Your Penni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4197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model construct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4791240"/>
            <a:ext cx="27432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ard B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ya Gordon Burst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an Francisco-Tip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iten Naralase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ael Redelman Si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44197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model inspir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483080"/>
            <a:ext cx="30481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ttle 6-year old Davey 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essor David Juran, P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vid “Aspiring Rock Star” J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48320" y="1371600"/>
            <a:ext cx="4038480" cy="533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295280"/>
            <a:ext cx="4038480" cy="5334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1600200"/>
            <a:ext cx="3047760" cy="3048120"/>
          </a:xfrm>
          <a:prstGeom prst="irregularSeal2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20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590920"/>
            <a:ext cx="3886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street flyer from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657600"/>
            <a:ext cx="3048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447920"/>
            <a:ext cx="3047760" cy="3047760"/>
          </a:xfrm>
          <a:prstGeom prst="irregularSeal2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619200" cy="76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648320" y="48769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e here the world famous artist David, “DJ114,” Juran croon his top new h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stal Ball Is Your Best Frien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20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202280" cy="116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4202280" cy="1166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876920" y="2971800"/>
            <a:ext cx="3593880" cy="525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066680" y="2971800"/>
            <a:ext cx="3594240" cy="598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2895480" y="4572000"/>
            <a:ext cx="299556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-76320" y="228600"/>
            <a:ext cx="746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Model limita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523880"/>
            <a:ext cx="815364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wth rate of income/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bility to control number and birth date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variability in life expect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Variability in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ability to save almost all spare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90720" y="25909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48320" y="1371600"/>
            <a:ext cx="4038480" cy="533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196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295280"/>
            <a:ext cx="40384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1676520"/>
            <a:ext cx="3504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 grow up i wanna be like elvis presley i wanna play the guitar and i wanna be a famous rock star and have a lotta money and a big house and a big car and a big barky dog and re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da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708280"/>
            <a:ext cx="3429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found note  written by a six-year 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343400"/>
            <a:ext cx="3048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565452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 – my own homemade beer would be nic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196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90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will Little Davey achieve his drea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778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Arial"/>
              </a:rPr>
              <a:t>By saving his pennies and earn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Formulati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Variab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% of Davey’s net income should he save for his retirement and the other things he 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ize his retirement f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irement fund must be &gt;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rement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when you bu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 of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 pa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on mortg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 of mortg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childcare and education expe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6320" y="228600"/>
            <a:ext cx="41911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Inpu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H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 grow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on sav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on ca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alty for early withdraw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Health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Car/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Sund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th Rates for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76320" y="228600"/>
            <a:ext cx="5029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More Inpu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196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98520" y="1752480"/>
            <a:ext cx="4202280" cy="1166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9440" y="3048120"/>
            <a:ext cx="2995560" cy="1201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69920" y="4419720"/>
            <a:ext cx="4202280" cy="1166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819520" y="5791320"/>
            <a:ext cx="299556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199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1371600"/>
            <a:ext cx="4038480" cy="533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295280"/>
            <a:ext cx="40384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5238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371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r Admissions Committ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905120"/>
            <a:ext cx="373356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 accept my application to business school.  I believe that I am a perfect candidate for the school.  My aspirations are to become a professional decision modeler. I am intimately familiar with Excel and consider the Solver application as my best friend.  Should modeling not work out as a career, I believe that business school will give me the skills to be an excellent beer purvey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vid Ju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59092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ver letter from an aspiring business school 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724280"/>
            <a:ext cx="3048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199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201920" cy="1166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594240" cy="100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299556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419720" y="2895480"/>
            <a:ext cx="4201920" cy="1166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04920" y="4419720"/>
            <a:ext cx="3593880" cy="84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886200" y="5638680"/>
            <a:ext cx="29955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8:24:55Z</dcterms:created>
  <dc:creator>Chaya Gordon Burstyn</dc:creator>
  <dc:description/>
  <dc:language>en-US</dc:language>
  <cp:lastModifiedBy>Yael Redelman-Sidi</cp:lastModifiedBy>
  <dcterms:modified xsi:type="dcterms:W3CDTF">2005-12-04T16:42:43Z</dcterms:modified>
  <cp:revision>20</cp:revision>
  <dc:subject/>
  <dc:title>Should I be a banker or a baker?</dc:title>
</cp:coreProperties>
</file>